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9EF-3F51-4364-A5B1-2AB2F6AB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8FD-9970-4803-90CB-5EC81641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5AD-5397-496C-9980-9FFD15E8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647-3E1A-4C3E-810A-7584FB88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C41-9EE6-4873-BD68-D41EB942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E7C-1335-4998-A1AF-E7DCCC28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0E9-DEC1-435B-BDD0-176883E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CEC-DB83-484C-80C6-7B07450B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986-C4A2-429B-8DCA-0896FB63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8DF-72CB-4436-8D75-726AC9D6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0F6-CB19-4FBC-88F8-E83C795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83A-CD6A-4E5E-B409-94B2382D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A70-9887-4876-AFCC-18BB14566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4400" y="-3240"/>
            <a:ext cx="9158400" cy="6867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28600" y="228600"/>
            <a:ext cx="335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2376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2059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21:41:17Z</dcterms:created>
  <dc:creator>Amreen Gill</dc:creator>
  <dc:description/>
  <dc:language>en-US</dc:language>
  <cp:lastModifiedBy>Amreen Gill</cp:lastModifiedBy>
  <dcterms:modified xsi:type="dcterms:W3CDTF">2012-04-17T19:08:40Z</dcterms:modified>
  <cp:revision>13</cp:revision>
  <dc:subject/>
  <dc:title>PowerPoint Presentation</dc:title>
</cp:coreProperties>
</file>